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96E6-5FD5-4CA1-8115-2F4E3AD6E1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7F82-CD64-45FE-A609-36E1A5B915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A925-884C-41C9-AE09-33B7DF939B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9985-5FAD-437E-845B-DF8CC15FE7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F628-C083-48D0-B613-FB99B8AC87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9B4B-9998-4B30-AA8F-D267940A01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B014-946B-42FA-92E9-9AE065F764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06C9-881A-4C2B-A828-515014F3F1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E4E5C-09D3-49E3-9B58-F55F93D9A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22AF0-51DD-43A3-A295-EB70F75B6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829EE-5EE1-45F4-A38E-2B2DDCFC1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77EE2-4BC8-4D82-886F-29E4E59E2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43F29-7DBB-4EE2-A375-7C37EF68C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7D741-F85A-4825-8DE6-E7C446FD2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21E29-9D4A-40B1-ADBC-E1083868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6E916-25C0-477C-9A16-5AAA68F04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DB778-BAE0-42D0-BDAD-D0D152702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4EA15-2CF6-4FA7-BB94-6EFE9FCE3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9964-EC12-4BE9-90CB-2F055F12B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F219-14C7-48E5-AF05-DF38D4E08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23F4-9036-47E8-930C-27FF613C320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rugs, Booze and Cigarett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By Callum McKenz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is the most used illegal drug in the UK and is made from the cannabis plant. It is a depressant and hallucinogenic drug. It can affect the Brain, Lungs and sometimes the Genitals. It causes cell damage if taken frequently. The brain cells are tricked by the drug into sending unusual messages to the rest of the body.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can have different effects on different people while under the influence of Cannabis. Here are a few</a:t>
            </a:r>
            <a:endParaRPr b="0" lang="en-US" sz="2800" spc="-1" strike="noStrike">
              <a:solidFill>
                <a:srgbClr val="000000"/>
              </a:solidFill>
              <a:latin typeface="Calibri"/>
            </a:endParaRPr>
          </a:p>
        </p:txBody>
      </p:sp>
      <p:pic>
        <p:nvPicPr>
          <p:cNvPr id="51" name="Picture 2" descr="http://upload.wikimedia.org/wikipedia/commons/2/26/Cannabis_01_bgiu.jpg"/>
          <p:cNvPicPr/>
          <p:nvPr/>
        </p:nvPicPr>
        <p:blipFill>
          <a:blip r:embed="rId1"/>
          <a:stretch/>
        </p:blipFill>
        <p:spPr>
          <a:xfrm>
            <a:off x="6948360" y="260280"/>
            <a:ext cx="1787760" cy="1341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pic>
        <p:nvPicPr>
          <p:cNvPr id="53" name="Picture 2" descr="http://upload.wikimedia.org/wikipedia/commons/2/26/Cannabis_01_bgiu.jpg"/>
          <p:cNvPicPr/>
          <p:nvPr/>
        </p:nvPicPr>
        <p:blipFill>
          <a:blip r:embed="rId2"/>
          <a:stretch/>
        </p:blipFill>
        <p:spPr>
          <a:xfrm>
            <a:off x="324000" y="189000"/>
            <a:ext cx="1787400" cy="13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sp>
        <p:nvSpPr>
          <p:cNvPr id="55" name=""/>
          <p:cNvSpPr txBox="1"/>
          <p:nvPr/>
        </p:nvSpPr>
        <p:spPr>
          <a:xfrm>
            <a:off x="395280" y="1557360"/>
            <a:ext cx="8229600" cy="4564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annab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ome people may feel relaxed and happy, others may feel like they want to be sick and be  bad temper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Other people may become very talkative whilst others may have hunger pangs or food cravings. (Munchi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Peoples senses may feel sharper while other people may feel as if time is slowing down due to hallucinogenic  effects.</a:t>
            </a:r>
            <a:endParaRPr b="0" lang="en-US" sz="2800" spc="-1" strike="noStrike">
              <a:solidFill>
                <a:srgbClr val="000000"/>
              </a:solidFill>
              <a:latin typeface="Calibri"/>
            </a:endParaRPr>
          </a:p>
        </p:txBody>
      </p:sp>
      <p:pic>
        <p:nvPicPr>
          <p:cNvPr id="56" name="Picture 2" descr="http://www.fotosearch.com/bthumb/CSP/CSP249/k2495411.jpg"/>
          <p:cNvPicPr/>
          <p:nvPr/>
        </p:nvPicPr>
        <p:blipFill>
          <a:blip r:embed="rId1"/>
          <a:stretch/>
        </p:blipFill>
        <p:spPr>
          <a:xfrm>
            <a:off x="6804000" y="189000"/>
            <a:ext cx="176364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58" name=""/>
          <p:cNvSpPr txBox="1"/>
          <p:nvPr/>
        </p:nvSpPr>
        <p:spPr>
          <a:xfrm>
            <a:off x="468360" y="155736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Alcohol is a legal drug but can be just as powerful. It is a depressant drug and can cause all sorts  of damage to the cells which make up our body:</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NERVE CELLS – slows down messages between the cells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and the brain.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MUSCLE CELLS – Weakens the heart cells so they can’t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ontract as well as needed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LIVER CELLS – Too much Alcohol can clog up the liver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ells with fat, destroying it.</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2" descr="http://www.neldat.org/cms/uploads/LARGE_20PHOTOS_ALCOHOL.jpg"/>
          <p:cNvPicPr/>
          <p:nvPr/>
        </p:nvPicPr>
        <p:blipFill>
          <a:blip r:embed="rId1"/>
          <a:stretch/>
        </p:blipFill>
        <p:spPr>
          <a:xfrm>
            <a:off x="250920" y="189000"/>
            <a:ext cx="2016000" cy="13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61" name=""/>
          <p:cNvSpPr txBox="1"/>
          <p:nvPr/>
        </p:nvSpPr>
        <p:spPr>
          <a:xfrm>
            <a:off x="457200" y="1267920"/>
            <a:ext cx="8229600" cy="5256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Effects of Alcohol:</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Alcohol can exaggerate the mood you are in at the time.</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people after heavy drinking may lode their balance or slur word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others may vomit after drink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In moderration it can take fells of stress and anxiety away and make you feel rather relaxed.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Drinking within the limits, is, on the whole OK. Just  don’t become out of control with your drinking as this could cause serious side effect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2" descr="http://topnews.in/healthcare/sites/default/files/alcohol11.jpg"/>
          <p:cNvPicPr/>
          <p:nvPr/>
        </p:nvPicPr>
        <p:blipFill>
          <a:blip r:embed="rId1"/>
          <a:stretch/>
        </p:blipFill>
        <p:spPr>
          <a:xfrm>
            <a:off x="7164360" y="0"/>
            <a:ext cx="1749600" cy="17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4"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Tobacco comes from the leaves of the tobacco plant. It contains a highly addictive drug called nicotine. Smoking affects the brain and the lungs. It causes much cell damage such as red blood cells (Not getting as much oxygen as sufficient), brain cells (become addicted to nicotine) and cillia which can lead to death.</a:t>
            </a:r>
            <a:endParaRPr b="0" lang="en-US" sz="2800" spc="-1" strike="noStrike">
              <a:solidFill>
                <a:srgbClr val="000000"/>
              </a:solidFill>
              <a:latin typeface="Calibri"/>
            </a:endParaRPr>
          </a:p>
        </p:txBody>
      </p:sp>
      <p:sp>
        <p:nvSpPr>
          <p:cNvPr id="6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7" descr="http://www.clivir.com/pictures/smoking/cigarettes1.jpg"/>
          <p:cNvPicPr/>
          <p:nvPr/>
        </p:nvPicPr>
        <p:blipFill>
          <a:blip r:embed="rId1"/>
          <a:stretch/>
        </p:blipFill>
        <p:spPr>
          <a:xfrm>
            <a:off x="5796000" y="4581360"/>
            <a:ext cx="3024000" cy="196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igarettes: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Reduces oxygen intak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Increases heart rat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lows reactions and can make your visual judgement poor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Your heart rate takes longer to get back to normal.</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mokers can get addicted very quickly so don’t even try one! It can take years and a lot of effort to kick the habit.</a:t>
            </a:r>
            <a:endParaRPr b="0" lang="en-US" sz="2800" spc="-1" strike="noStrike">
              <a:solidFill>
                <a:srgbClr val="000000"/>
              </a:solidFill>
              <a:latin typeface="Calibri"/>
            </a:endParaRPr>
          </a:p>
        </p:txBody>
      </p:sp>
      <p:pic>
        <p:nvPicPr>
          <p:cNvPr id="70" name="Picture 5" descr="http://www.infobarrel.com/media/image/10989.jpg"/>
          <p:cNvPicPr/>
          <p:nvPr/>
        </p:nvPicPr>
        <p:blipFill>
          <a:blip r:embed="rId1"/>
          <a:stretch/>
        </p:blipFill>
        <p:spPr>
          <a:xfrm>
            <a:off x="6372360" y="549360"/>
            <a:ext cx="247788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7:04:00Z</dcterms:created>
  <dc:creator>dmckenz2</dc:creator>
  <dc:description/>
  <dc:language>en-US</dc:language>
  <cp:lastModifiedBy>Deb</cp:lastModifiedBy>
  <dcterms:modified xsi:type="dcterms:W3CDTF">2010-10-19T15:17:34Z</dcterms:modified>
  <cp:revision>8</cp:revision>
  <dc:subject/>
  <dc:title>Drugs, Booze and Cigarettes</dc:title>
</cp:coreProperties>
</file>